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9D2F-2E69-4E8A-ABA5-63E8AF26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4FDF-9785-49A3-992D-8F79F3C1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998AF-83E2-4B12-8A6E-5E0433DD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00553-2710-4CE2-955D-21FC8D61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12BCD-8DA9-4C9C-A2DD-CE6EEA3A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C047B-CC1D-4825-89D1-05A0C8ED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E5F99-32BD-4DDB-BDDD-F53FD162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723FC-3E47-41E4-8F8F-1752E180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0D618-2A66-4785-8473-9A233D11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989B4-D3A5-4F6B-975F-81FD1845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2C045-BCDB-4425-BEED-D06AC4C6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3EC01-8F7E-4123-BC4B-F48DAEC1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69B3-7FA7-4483-B3DF-C38B44B0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D5967-3313-4908-A1A5-26843115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FADB6-C89E-4149-A899-28B91BDC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94E46-654E-4044-96DF-FBDC1BE7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ECF77-23EB-419B-BF09-53F3316D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CE7A1-ADE7-495E-B3AA-2688CA1F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D2023-2C7C-4DA0-91B1-2F201792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57018-A2E5-41D2-B559-919859DA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17C91-9430-43ED-97B4-0002CF90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D2F39-09A9-4039-BBEE-FD03FDC1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4DCE4-561D-45A2-B608-4BE885B2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DC4-5DEA-4FE7-BEB7-88E22BE5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FE65C-E5C0-4CEA-9384-4CD954B7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5567B-F51A-4F30-BCE3-C449AB72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D5B5D-0EB0-4223-83B4-C3CC32FC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76FB4-FC6D-42B1-9224-F2A5C255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FB7F9-DA5A-4862-9FB0-5B3D41E3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6441A-1CA3-4C00-8A8F-83099A25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81C70-D613-4760-9F22-0276AF8F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287B5-CBF1-4BC7-8A47-0031D0FF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728A7-BB04-4A35-BD34-BAD46B38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50997-E723-47A7-80B2-DEB6DCF4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FEE2-1811-4A06-A37C-025959E8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D1C13-10F5-457C-A615-6D37053B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F0463-452E-4224-A320-BD6D3E25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642ED-8DCE-4E75-B7F1-7D796D77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3A0E3-22EB-4E99-95CC-01A0ACA0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CAEB1-C9C6-4378-9D8B-0C05F01C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6D01A-332E-4D9F-8E74-B420B136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A15A8-6799-4D65-9203-F7904AA8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B192F-B3FF-44CD-8F2D-3BF283BE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8A7C0-0306-4334-9FDD-F1913244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AA6CD-D9DB-4DFE-BBD7-5BEFDE32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AD3C-5E43-4107-A61A-3CBFACB4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BDC47-009B-454D-B74A-BE84E562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D4CC3-86B0-457F-AD59-BBAF8C7B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2A729-C2EC-4C76-85B7-E6997971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57B93-AAEA-4FA0-8C47-6576F38A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D16C7-5EFD-42E5-B298-3506D5F8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C22420-3DF4-4566-8585-7FB3D485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59A0C-A797-49D3-BD34-DC276872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8BE0C-E245-4764-93FB-2F7BD0EB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EC6D4-F293-430B-AD9D-7E8DA91F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E4C00-D3E3-420C-83C3-111E475F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4EB8-9729-488F-A3FB-74DB36D3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941E89-EDBD-43EE-A522-633E0F02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100E3A-42E0-452F-9211-6DA2F027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6D35C-BC52-497D-91DC-68812D6F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A29372-AC28-43FB-B0A7-590F4B0F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E2D42-AD19-4AA7-A5E9-4FF864EC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D82A9-4024-4B32-93C2-31708660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3D1C22-04A3-48C5-887C-45C101F3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CB1B-4817-4EA8-A983-FAA55DCC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7F8D-88D7-4AF5-A971-18EAA283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7617-F7C4-4471-8DFB-E8D1385D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C462-38AD-4AA1-B8C4-79E11258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428D-01F7-4D80-BA9C-3AD6B16E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6680-4DDE-44AA-9D2E-1E7201A4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F2A2-4636-4090-B752-59DFA9B6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731A-F7FD-485C-A5BB-2A7DE972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4731-32CE-4590-BA0F-86CA33EF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FEA1-4A5F-44E2-AF18-00B60FD9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A0ACE-2D09-4145-832D-6456744A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80341-3CA3-482C-8930-3CC08C3E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3C678-BF37-4273-8A46-8E5C980D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A33A5-A23D-4360-924C-A54979AE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23398-FF0D-4DBA-91D0-5BCE645C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27BD-DD2D-40B0-B964-BC2CEC03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279F8-A58D-4D1F-8494-62EC52B1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BAF61-AFE5-4F03-8C9A-E1C7FC3D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C6503-A389-47C6-B131-4D7B0305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42E17-95CC-4E58-8FAA-8731F305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865CB-6FF2-4875-9E22-F1687273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781D0-A855-4992-BA5E-B99E8427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65EA0-0998-4756-AD3B-AAAD7DBB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A6548-D9DC-4244-B431-BFB9E3FD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E3AAF-23E5-4A8A-9CF7-A92E2479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B369E-2757-4729-9C17-BF8CC24D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6A66-C238-45A2-9296-30944C81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622B9-A18A-4114-A5E0-DA734D47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726AF-671D-4458-9A34-C0186C1F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CCA38-7126-4CDE-A411-E71DBAB1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B260D-B959-4992-AF42-69FE7EB5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4B823-1039-49FB-8321-1130E9DB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72983-CA81-4EF4-B89F-EAF5751A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52121-1585-41B1-8714-9280219D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59928-EDED-4D88-8A17-F755A503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95E0D-15AF-4376-A8C7-2CC855FC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A06D1-40BB-4885-A6B0-AEC3A3DD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29A9-C542-4EC2-AD1D-20D65E37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F1A97-71C7-467A-ACC3-E1330BA1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1A6FB-901B-4126-B0F1-B1BC636F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DFEEA-3106-40B6-BF36-D28E6416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C74F4-99EC-4026-9A2F-5D7446A0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ED8D6-0721-4E65-BD06-D2394713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A7B04-CB22-4995-B91D-3AF1F5E8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56912-A700-4C85-97ED-CE058706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2E903-24F4-4F95-A382-E62E6E69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951CC-D08C-4645-8AD3-674110B0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14718-375D-4F3C-A873-CDF2D3C5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8F37-58D4-4DAB-9D89-26511439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31ADA-D264-4617-A4A8-69CFDE3D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910E0-A894-4219-9224-2F140F59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A168F-423A-4C9A-80DF-893D0C44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D42C9-1525-43E6-A4E0-0CF98BF4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61BA7-96FC-47F1-A3A1-25DAF244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293B8-2C03-44B8-AC59-61AE0107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4203D-8A3B-4BC1-B789-CDB602DF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6E59D-8480-494B-87D2-6AC0C994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16A32-F989-4B1C-B111-BB6D704E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800B2-1E42-4C35-9167-14CCB397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285D-6126-4E6F-BC99-21CA4654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DE1C3-729A-4145-8FDC-B384A8C7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38C55-B90E-4DE1-B4E6-8BE77CC5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58089-DC17-4563-A865-EB6ED113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3FEA2-26E0-4309-98D7-25DB143E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58C33-D682-4C10-B07F-F7B61F34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51785-85C3-48A5-8917-71B9E659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0B37A-9B43-4648-9490-A6E1F8E4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1809C-04F6-493F-95D6-9C66F6E9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A4E5C-9533-412D-BCB6-4A6735FF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C3BDC-633C-4251-978D-CF59C961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98C2-DAC8-4789-AE66-AD9E58AA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25386-CBC3-4E66-805B-4E507FEA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51DE4-7C8F-4E2A-92E6-8F571306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1EA44-61A4-4D88-AD69-550F88D7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B5B2D-2CFC-40E4-ADF4-31506731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CBB30-BE8D-4D85-B3F2-E2831CBB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92490-6E52-454E-9F14-46E23746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20AD4-D41B-4543-801A-C7B81061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CEF60-3D5F-4A7A-AF41-0641BB07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498AD-AD63-42E8-B342-77E2DC21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14A49-A972-48E0-8D36-9D0AA4F2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5A0-9409-4633-B2DA-4011313B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E86A5-6B62-4F93-9B6E-76CC2225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E764B-BECB-4BCE-8B68-D0F1A5B9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CC67D-7A6E-4735-8B82-06FB1334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EF3E8-FE04-41BD-9454-1146B78A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4E32D-5774-4555-BD53-2BE59FC6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E8F1F-1476-4839-AB83-9557C707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ED73F-0E2F-4D8C-A2DF-77E9992F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B9A1F-D565-4EBA-A10F-CED371E5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D557C-FCD7-4B1F-B4CA-D0BF72F3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78A9E-5F10-470F-B349-11E38C10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76D2-83DC-4F4F-AB4E-CDA88DE1C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F14C-02D3-4F2E-832A-E1DC745E93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3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B976-91B0-458C-A420-FF2AABE3468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5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FEFD-90BB-4434-848E-EC9F81F874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6337-6FBA-4CB8-AFFA-D4B7317DDD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1D91-D643-43F1-993F-A10C3886BE7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80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>
                    <a:gd name="textAreaLeft" fmla="*/ 0 w 429480"/>
                    <a:gd name="textAreaRight" fmla="*/ 429840 w 4294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>
                    <a:gd name="textAreaLeft" fmla="*/ 0 w 805680"/>
                    <a:gd name="textAreaRight" fmla="*/ 806040 w 8056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>
                    <a:gd name="textAreaLeft" fmla="*/ 0 w 1209600"/>
                    <a:gd name="textAreaRight" fmla="*/ 1209960 w 120960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29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B4B4-45CC-471B-B044-8733E94AE2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1526-AD16-4754-9F48-677593860F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1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1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2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9BB8-33B9-4B34-8CD8-1DEFAD98E37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87F4-4DF8-4DDD-A309-C4CF5B301B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D302-057D-4E15-B7EB-F958C175F1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5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6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367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37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FE09-5898-40BA-88AE-B509512B48B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20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0508-585F-4BFF-B553-CEAAB27A54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" Target="slide6.xml"/><Relationship Id="rId14" Type="http://schemas.openxmlformats.org/officeDocument/2006/relationships/slide" Target="slide7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6.xml"/><Relationship Id="rId22" Type="http://schemas.openxmlformats.org/officeDocument/2006/relationships/slide" Target="slide27.xml"/><Relationship Id="rId23" Type="http://schemas.openxmlformats.org/officeDocument/2006/relationships/slide" Target="slide28.xml"/><Relationship Id="rId24" Type="http://schemas.openxmlformats.org/officeDocument/2006/relationships/slide" Target="slide29.xml"/><Relationship Id="rId25" Type="http://schemas.openxmlformats.org/officeDocument/2006/relationships/slide" Target="slide30.xml"/><Relationship Id="rId26" Type="http://schemas.openxmlformats.org/officeDocument/2006/relationships/slide" Target="slide31.xml"/><Relationship Id="rId27" Type="http://schemas.openxmlformats.org/officeDocument/2006/relationships/slide" Target="slide38.xml"/><Relationship Id="rId28" Type="http://schemas.openxmlformats.org/officeDocument/2006/relationships/slide" Target="slide39.xml"/><Relationship Id="rId29" Type="http://schemas.openxmlformats.org/officeDocument/2006/relationships/slide" Target="slide40.xml"/><Relationship Id="rId30" Type="http://schemas.openxmlformats.org/officeDocument/2006/relationships/slide" Target="slide41.xml"/><Relationship Id="rId31" Type="http://schemas.openxmlformats.org/officeDocument/2006/relationships/slide" Target="slide42.xml"/><Relationship Id="rId32" Type="http://schemas.openxmlformats.org/officeDocument/2006/relationships/slide" Target="slide43.xml"/><Relationship Id="rId33" Type="http://schemas.openxmlformats.org/officeDocument/2006/relationships/slide" Target="slide50.xml"/><Relationship Id="rId34" Type="http://schemas.openxmlformats.org/officeDocument/2006/relationships/slide" Target="slide51.xml"/><Relationship Id="rId35" Type="http://schemas.openxmlformats.org/officeDocument/2006/relationships/slide" Target="slide52.xml"/><Relationship Id="rId36" Type="http://schemas.openxmlformats.org/officeDocument/2006/relationships/slide" Target="slide53.xml"/><Relationship Id="rId37" Type="http://schemas.openxmlformats.org/officeDocument/2006/relationships/slide" Target="slide54.xml"/><Relationship Id="rId38" Type="http://schemas.openxmlformats.org/officeDocument/2006/relationships/slide" Target="slide55.xml"/><Relationship Id="rId39" Type="http://schemas.openxmlformats.org/officeDocument/2006/relationships/slide" Target="slide62.xml"/><Relationship Id="rId40" Type="http://schemas.openxmlformats.org/officeDocument/2006/relationships/slide" Target="slide63.xml"/><Relationship Id="rId41" Type="http://schemas.openxmlformats.org/officeDocument/2006/relationships/slide" Target="slide64.xml"/><Relationship Id="rId42" Type="http://schemas.openxmlformats.org/officeDocument/2006/relationships/slide" Target="slide65.xml"/><Relationship Id="rId43" Type="http://schemas.openxmlformats.org/officeDocument/2006/relationships/slide" Target="slide66.xml"/><Relationship Id="rId44" Type="http://schemas.openxmlformats.org/officeDocument/2006/relationships/slide" Target="slide67.xml"/><Relationship Id="rId45" Type="http://schemas.openxmlformats.org/officeDocument/2006/relationships/slide" Target=""/><Relationship Id="rId46" Type="http://schemas.openxmlformats.org/officeDocument/2006/relationships/slide" Target=""/><Relationship Id="rId4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32.xml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33.xml"/><Relationship Id="rId4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34.xml"/><Relationship Id="rId4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35.xml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36.xml"/><Relationship Id="rId4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37.xml"/><Relationship Id="rId4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45.xml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46.xml"/><Relationship Id="rId5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47.xml"/><Relationship Id="rId5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48.xml"/><Relationship Id="rId5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49.xml"/><Relationship Id="rId4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56.xml"/><Relationship Id="rId4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57.xml"/><Relationship Id="rId5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60.xml"/><Relationship Id="rId5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61.xml"/><Relationship Id="rId5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8.xml"/><Relationship Id="rId3" Type="http://schemas.openxmlformats.org/officeDocument/2006/relationships/slideLayout" Target="../slideLayouts/slideLayout7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69.xml"/><Relationship Id="rId5" Type="http://schemas.openxmlformats.org/officeDocument/2006/relationships/slideLayout" Target="../slideLayouts/slideLayout7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7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71.xml"/><Relationship Id="rId5" Type="http://schemas.openxmlformats.org/officeDocument/2006/relationships/slideLayout" Target="../slideLayouts/slideLayout7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72.xml"/><Relationship Id="rId5" Type="http://schemas.openxmlformats.org/officeDocument/2006/relationships/slideLayout" Target="../slideLayouts/slideLayout7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73.xml"/><Relationship Id="rId5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3">
            <a:hlinkClick r:id="rId2" action="ppaction://hlinksldjump"/>
          </p:cNvPr>
          <p:cNvSpPr/>
          <p:nvPr/>
        </p:nvSpPr>
        <p:spPr>
          <a:xfrm>
            <a:off x="838080" y="1981080"/>
            <a:ext cx="838440" cy="609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4">
            <a:hlinkClick r:id="rId3" action="ppaction://hlinksldjump"/>
          </p:cNvPr>
          <p:cNvSpPr/>
          <p:nvPr/>
        </p:nvSpPr>
        <p:spPr>
          <a:xfrm>
            <a:off x="838080" y="2743200"/>
            <a:ext cx="838440" cy="6094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5">
            <a:hlinkClick r:id="rId4" action="ppaction://hlinksldjump"/>
          </p:cNvPr>
          <p:cNvSpPr/>
          <p:nvPr/>
        </p:nvSpPr>
        <p:spPr>
          <a:xfrm>
            <a:off x="838080" y="3505320"/>
            <a:ext cx="838440" cy="6094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6">
            <a:hlinkClick r:id="rId5" action="ppaction://hlinksldjump"/>
          </p:cNvPr>
          <p:cNvSpPr/>
          <p:nvPr/>
        </p:nvSpPr>
        <p:spPr>
          <a:xfrm>
            <a:off x="838080" y="4267080"/>
            <a:ext cx="838440" cy="609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7">
            <a:hlinkClick r:id="rId6" action="ppaction://hlinksldjump"/>
          </p:cNvPr>
          <p:cNvSpPr/>
          <p:nvPr/>
        </p:nvSpPr>
        <p:spPr>
          <a:xfrm>
            <a:off x="2127600" y="1371600"/>
            <a:ext cx="110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ath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8">
            <a:hlinkClick r:id="rId7" action="ppaction://hlinksldjump"/>
          </p:cNvPr>
          <p:cNvSpPr/>
          <p:nvPr/>
        </p:nvSpPr>
        <p:spPr>
          <a:xfrm>
            <a:off x="3432960" y="15238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9">
            <a:hlinkClick r:id="rId8" action="ppaction://hlinksldjump"/>
          </p:cNvPr>
          <p:cNvSpPr/>
          <p:nvPr/>
        </p:nvSpPr>
        <p:spPr>
          <a:xfrm>
            <a:off x="4722120" y="1371600"/>
            <a:ext cx="120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les’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0">
            <a:hlinkClick r:id="rId9" action="ppaction://hlinksldjump"/>
          </p:cNvPr>
          <p:cNvSpPr/>
          <p:nvPr/>
        </p:nvSpPr>
        <p:spPr>
          <a:xfrm>
            <a:off x="5863680" y="137160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11">
            <a:hlinkClick r:id="rId10" action="ppaction://hlinksldjump"/>
          </p:cNvPr>
          <p:cNvSpPr/>
          <p:nvPr/>
        </p:nvSpPr>
        <p:spPr>
          <a:xfrm>
            <a:off x="7314480" y="1371600"/>
            <a:ext cx="112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MT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ldc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8200" y="240840"/>
            <a:ext cx="8037360" cy="10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Weather: Section 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4" name="Text Box 13">
            <a:hlinkClick r:id="rId12" action="ppaction://hlinksldjump"/>
          </p:cNvPr>
          <p:cNvSpPr/>
          <p:nvPr/>
        </p:nvSpPr>
        <p:spPr>
          <a:xfrm>
            <a:off x="826200" y="137160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oc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14">
            <a:hlinkClick r:id="rId13" action="ppaction://hlinksldjump"/>
          </p:cNvPr>
          <p:cNvSpPr/>
          <p:nvPr/>
        </p:nvSpPr>
        <p:spPr>
          <a:xfrm>
            <a:off x="838080" y="5029200"/>
            <a:ext cx="838440" cy="6094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15">
            <a:hlinkClick r:id="rId14" action="ppaction://hlinksldjump"/>
          </p:cNvPr>
          <p:cNvSpPr/>
          <p:nvPr/>
        </p:nvSpPr>
        <p:spPr>
          <a:xfrm>
            <a:off x="838080" y="5791320"/>
            <a:ext cx="838440" cy="6094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16">
            <a:hlinkClick r:id="rId15" action="ppaction://hlinksldjump"/>
          </p:cNvPr>
          <p:cNvSpPr/>
          <p:nvPr/>
        </p:nvSpPr>
        <p:spPr>
          <a:xfrm>
            <a:off x="2133720" y="1981080"/>
            <a:ext cx="838080" cy="609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17">
            <a:hlinkClick r:id="rId16" action="ppaction://hlinksldjump"/>
          </p:cNvPr>
          <p:cNvSpPr/>
          <p:nvPr/>
        </p:nvSpPr>
        <p:spPr>
          <a:xfrm>
            <a:off x="2133720" y="2743200"/>
            <a:ext cx="83808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18">
            <a:hlinkClick r:id="rId17" action="ppaction://hlinksldjump"/>
          </p:cNvPr>
          <p:cNvSpPr/>
          <p:nvPr/>
        </p:nvSpPr>
        <p:spPr>
          <a:xfrm>
            <a:off x="2133720" y="3505320"/>
            <a:ext cx="83808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19">
            <a:hlinkClick r:id="rId18" action="ppaction://hlinksldjump"/>
          </p:cNvPr>
          <p:cNvSpPr/>
          <p:nvPr/>
        </p:nvSpPr>
        <p:spPr>
          <a:xfrm>
            <a:off x="2133720" y="4267080"/>
            <a:ext cx="838080" cy="609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20">
            <a:hlinkClick r:id="rId19" action="ppaction://hlinksldjump"/>
          </p:cNvPr>
          <p:cNvSpPr/>
          <p:nvPr/>
        </p:nvSpPr>
        <p:spPr>
          <a:xfrm>
            <a:off x="2133720" y="5029200"/>
            <a:ext cx="83808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21">
            <a:hlinkClick r:id="rId20" action="ppaction://hlinksldjump"/>
          </p:cNvPr>
          <p:cNvSpPr/>
          <p:nvPr/>
        </p:nvSpPr>
        <p:spPr>
          <a:xfrm>
            <a:off x="2133720" y="5791320"/>
            <a:ext cx="83808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22">
            <a:hlinkClick r:id="rId21" action="ppaction://hlinksldjump"/>
          </p:cNvPr>
          <p:cNvSpPr/>
          <p:nvPr/>
        </p:nvSpPr>
        <p:spPr>
          <a:xfrm>
            <a:off x="3429000" y="1981080"/>
            <a:ext cx="83808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23">
            <a:hlinkClick r:id="rId22" action="ppaction://hlinksldjump"/>
          </p:cNvPr>
          <p:cNvSpPr/>
          <p:nvPr/>
        </p:nvSpPr>
        <p:spPr>
          <a:xfrm>
            <a:off x="3429000" y="2743200"/>
            <a:ext cx="83808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24">
            <a:hlinkClick r:id="rId23" action="ppaction://hlinksldjump"/>
          </p:cNvPr>
          <p:cNvSpPr/>
          <p:nvPr/>
        </p:nvSpPr>
        <p:spPr>
          <a:xfrm>
            <a:off x="3429000" y="3505320"/>
            <a:ext cx="83808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25">
            <a:hlinkClick r:id="rId24" action="ppaction://hlinksldjump"/>
          </p:cNvPr>
          <p:cNvSpPr/>
          <p:nvPr/>
        </p:nvSpPr>
        <p:spPr>
          <a:xfrm>
            <a:off x="3429000" y="4267080"/>
            <a:ext cx="83808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Rectangle 26">
            <a:hlinkClick r:id="rId25" action="ppaction://hlinksldjump"/>
          </p:cNvPr>
          <p:cNvSpPr/>
          <p:nvPr/>
        </p:nvSpPr>
        <p:spPr>
          <a:xfrm>
            <a:off x="3429000" y="5029200"/>
            <a:ext cx="83808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27">
            <a:hlinkClick r:id="rId26" action="ppaction://hlinksldjump"/>
          </p:cNvPr>
          <p:cNvSpPr/>
          <p:nvPr/>
        </p:nvSpPr>
        <p:spPr>
          <a:xfrm>
            <a:off x="3429000" y="5791320"/>
            <a:ext cx="83808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28">
            <a:hlinkClick r:id="rId27" action="ppaction://hlinksldjump"/>
          </p:cNvPr>
          <p:cNvSpPr/>
          <p:nvPr/>
        </p:nvSpPr>
        <p:spPr>
          <a:xfrm>
            <a:off x="4724280" y="1981080"/>
            <a:ext cx="83844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29">
            <a:hlinkClick r:id="rId28" action="ppaction://hlinksldjump"/>
          </p:cNvPr>
          <p:cNvSpPr/>
          <p:nvPr/>
        </p:nvSpPr>
        <p:spPr>
          <a:xfrm>
            <a:off x="4724280" y="2743200"/>
            <a:ext cx="83844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30">
            <a:hlinkClick r:id="rId29" action="ppaction://hlinksldjump"/>
          </p:cNvPr>
          <p:cNvSpPr/>
          <p:nvPr/>
        </p:nvSpPr>
        <p:spPr>
          <a:xfrm>
            <a:off x="4724280" y="3505320"/>
            <a:ext cx="83844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31">
            <a:hlinkClick r:id="rId30" action="ppaction://hlinksldjump"/>
          </p:cNvPr>
          <p:cNvSpPr/>
          <p:nvPr/>
        </p:nvSpPr>
        <p:spPr>
          <a:xfrm>
            <a:off x="4724280" y="4267080"/>
            <a:ext cx="83844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32">
            <a:hlinkClick r:id="rId31" action="ppaction://hlinksldjump"/>
          </p:cNvPr>
          <p:cNvSpPr/>
          <p:nvPr/>
        </p:nvSpPr>
        <p:spPr>
          <a:xfrm>
            <a:off x="4724280" y="5029200"/>
            <a:ext cx="83844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33">
            <a:hlinkClick r:id="rId32" action="ppaction://hlinksldjump"/>
          </p:cNvPr>
          <p:cNvSpPr/>
          <p:nvPr/>
        </p:nvSpPr>
        <p:spPr>
          <a:xfrm>
            <a:off x="4724280" y="5791320"/>
            <a:ext cx="83844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34">
            <a:hlinkClick r:id="rId33" action="ppaction://hlinksldjump"/>
          </p:cNvPr>
          <p:cNvSpPr/>
          <p:nvPr/>
        </p:nvSpPr>
        <p:spPr>
          <a:xfrm>
            <a:off x="6019920" y="1981080"/>
            <a:ext cx="838080" cy="60984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35">
            <a:hlinkClick r:id="rId34" action="ppaction://hlinksldjump"/>
          </p:cNvPr>
          <p:cNvSpPr/>
          <p:nvPr/>
        </p:nvSpPr>
        <p:spPr>
          <a:xfrm>
            <a:off x="6019920" y="2743200"/>
            <a:ext cx="838080" cy="60948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36">
            <a:hlinkClick r:id="rId35" action="ppaction://hlinksldjump"/>
          </p:cNvPr>
          <p:cNvSpPr/>
          <p:nvPr/>
        </p:nvSpPr>
        <p:spPr>
          <a:xfrm>
            <a:off x="6019920" y="3505320"/>
            <a:ext cx="838080" cy="60948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37">
            <a:hlinkClick r:id="rId36" action="ppaction://hlinksldjump"/>
          </p:cNvPr>
          <p:cNvSpPr/>
          <p:nvPr/>
        </p:nvSpPr>
        <p:spPr>
          <a:xfrm>
            <a:off x="6019920" y="4267080"/>
            <a:ext cx="838080" cy="60984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38">
            <a:hlinkClick r:id="rId37" action="ppaction://hlinksldjump"/>
          </p:cNvPr>
          <p:cNvSpPr/>
          <p:nvPr/>
        </p:nvSpPr>
        <p:spPr>
          <a:xfrm>
            <a:off x="6019920" y="5029200"/>
            <a:ext cx="838080" cy="60948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39">
            <a:hlinkClick r:id="rId38" action="ppaction://hlinksldjump"/>
          </p:cNvPr>
          <p:cNvSpPr/>
          <p:nvPr/>
        </p:nvSpPr>
        <p:spPr>
          <a:xfrm>
            <a:off x="6019920" y="5791320"/>
            <a:ext cx="838080" cy="60948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40">
            <a:hlinkClick r:id="rId39" action="ppaction://hlinksldjump"/>
          </p:cNvPr>
          <p:cNvSpPr/>
          <p:nvPr/>
        </p:nvSpPr>
        <p:spPr>
          <a:xfrm>
            <a:off x="7315200" y="1981080"/>
            <a:ext cx="838080" cy="6098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41">
            <a:hlinkClick r:id="rId40" action="ppaction://hlinksldjump"/>
          </p:cNvPr>
          <p:cNvSpPr/>
          <p:nvPr/>
        </p:nvSpPr>
        <p:spPr>
          <a:xfrm>
            <a:off x="7315200" y="2743200"/>
            <a:ext cx="8380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42">
            <a:hlinkClick r:id="rId41" action="ppaction://hlinksldjump"/>
          </p:cNvPr>
          <p:cNvSpPr/>
          <p:nvPr/>
        </p:nvSpPr>
        <p:spPr>
          <a:xfrm>
            <a:off x="7315200" y="3505320"/>
            <a:ext cx="8380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43">
            <a:hlinkClick r:id="rId42" action="ppaction://hlinksldjump"/>
          </p:cNvPr>
          <p:cNvSpPr/>
          <p:nvPr/>
        </p:nvSpPr>
        <p:spPr>
          <a:xfrm>
            <a:off x="7315200" y="4267080"/>
            <a:ext cx="838080" cy="6098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44">
            <a:hlinkClick r:id="rId43" action="ppaction://hlinksldjump"/>
          </p:cNvPr>
          <p:cNvSpPr/>
          <p:nvPr/>
        </p:nvSpPr>
        <p:spPr>
          <a:xfrm>
            <a:off x="7315200" y="5029200"/>
            <a:ext cx="8380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45">
            <a:hlinkClick r:id="rId44" action="ppaction://hlinksldjump"/>
          </p:cNvPr>
          <p:cNvSpPr/>
          <p:nvPr/>
        </p:nvSpPr>
        <p:spPr>
          <a:xfrm>
            <a:off x="7315200" y="5791320"/>
            <a:ext cx="8380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46">
            <a:hlinkClick r:id="rId45" action="ppaction://hlinksldjump"/>
          </p:cNvPr>
          <p:cNvSpPr/>
          <p:nvPr/>
        </p:nvSpPr>
        <p:spPr>
          <a:xfrm flipH="1">
            <a:off x="1066680" y="64771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47">
            <a:hlinkClick r:id="rId46" action="ppaction://hlinksldjump"/>
          </p:cNvPr>
          <p:cNvSpPr/>
          <p:nvPr/>
        </p:nvSpPr>
        <p:spPr>
          <a:xfrm>
            <a:off x="1221840" y="652140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2">
            <a:hlinkClick r:id="rId1" action="ppaction://hlinksldjump"/>
          </p:cNvPr>
          <p:cNvSpPr/>
          <p:nvPr/>
        </p:nvSpPr>
        <p:spPr>
          <a:xfrm>
            <a:off x="0" y="-30492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3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2286000" y="3200400"/>
            <a:ext cx="4952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proportional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melting point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4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5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1600200" y="2743200"/>
            <a:ext cx="5105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temperature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6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1752480" y="2819520"/>
            <a:ext cx="5867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kinetic molecular theory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Weather Maps -1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4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 Box 6"/>
          <p:cNvSpPr/>
          <p:nvPr/>
        </p:nvSpPr>
        <p:spPr>
          <a:xfrm>
            <a:off x="1143000" y="1981080"/>
            <a:ext cx="69343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he curved-shaped current of high altitude wind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Weather Maps - 2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8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1676520" y="2209680"/>
            <a:ext cx="6248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he shape of the jet stream coincides with the contour lines of this propert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Weather Maps- 3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2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 Box 6"/>
          <p:cNvSpPr/>
          <p:nvPr/>
        </p:nvSpPr>
        <p:spPr>
          <a:xfrm>
            <a:off x="1295280" y="1981080"/>
            <a:ext cx="6858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arm and cold fronts are located near areas of ____ pressur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Weather Maps - 4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6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5"/>
          <p:cNvSpPr/>
          <p:nvPr/>
        </p:nvSpPr>
        <p:spPr>
          <a:xfrm>
            <a:off x="1295280" y="22096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6"/>
          <p:cNvSpPr/>
          <p:nvPr/>
        </p:nvSpPr>
        <p:spPr>
          <a:xfrm>
            <a:off x="1447920" y="2133720"/>
            <a:ext cx="6476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No clouds near areas of ____ pressure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Weather Maps - 5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1752480" y="2286000"/>
            <a:ext cx="5715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Clouds are more likely to form near thes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Weather Maps- 6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"/>
          <p:cNvSpPr/>
          <p:nvPr/>
        </p:nvSpPr>
        <p:spPr>
          <a:xfrm>
            <a:off x="1447920" y="2057400"/>
            <a:ext cx="632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Draw a symbol for a cold front: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1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5"/>
          <p:cNvSpPr/>
          <p:nvPr/>
        </p:nvSpPr>
        <p:spPr>
          <a:xfrm>
            <a:off x="92880" y="3780000"/>
            <a:ext cx="3679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914400" y="251460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ouds, winds, temperature, 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cipitation in a region in a given time; caused by physical changes in the atmospher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Weather Maps: 1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1447920" y="2590920"/>
            <a:ext cx="60958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Times New Roman"/>
              </a:rPr>
              <a:t>What is the jet stream?</a:t>
            </a:r>
            <a:endParaRPr b="0" lang="en-US" sz="6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eather Maps - 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2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3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5"/>
          <p:cNvSpPr/>
          <p:nvPr/>
        </p:nvSpPr>
        <p:spPr>
          <a:xfrm>
            <a:off x="1295280" y="2514600"/>
            <a:ext cx="541044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What is temperature?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eather Maps: 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3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7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5"/>
          <p:cNvSpPr/>
          <p:nvPr/>
        </p:nvSpPr>
        <p:spPr>
          <a:xfrm>
            <a:off x="1828800" y="236232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low pressure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Weather Maps: 4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1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1828800" y="251460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high pressure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>
            <a:hlinkClick r:id="rId1" action="ppaction://hlinksldjump"/>
          </p:cNvPr>
          <p:cNvSpPr/>
          <p:nvPr/>
        </p:nvSpPr>
        <p:spPr>
          <a:xfrm>
            <a:off x="0" y="2286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Weather- 5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5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1219320" y="2743200"/>
            <a:ext cx="723888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What are fronts? 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Weather Maps: 6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9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Text Box 5"/>
          <p:cNvSpPr/>
          <p:nvPr/>
        </p:nvSpPr>
        <p:spPr>
          <a:xfrm>
            <a:off x="2971800" y="1828800"/>
            <a:ext cx="5181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1" name="Picture 7" descr=""/>
          <p:cNvPicPr/>
          <p:nvPr/>
        </p:nvPicPr>
        <p:blipFill>
          <a:blip r:embed="rId4"/>
          <a:stretch/>
        </p:blipFill>
        <p:spPr>
          <a:xfrm>
            <a:off x="2514600" y="2666880"/>
            <a:ext cx="27432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Density- 1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4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Text Box 6"/>
          <p:cNvSpPr/>
          <p:nvPr/>
        </p:nvSpPr>
        <p:spPr>
          <a:xfrm>
            <a:off x="2133720" y="1905120"/>
            <a:ext cx="685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he formula for densit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nsity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- 2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8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6"/>
          <p:cNvSpPr/>
          <p:nvPr/>
        </p:nvSpPr>
        <p:spPr>
          <a:xfrm>
            <a:off x="1752480" y="1523880"/>
            <a:ext cx="70106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2819520" y="1523880"/>
            <a:ext cx="527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___ of a line of mass versus volume equals densit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nsity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- 3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3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Text Box 6"/>
          <p:cNvSpPr/>
          <p:nvPr/>
        </p:nvSpPr>
        <p:spPr>
          <a:xfrm>
            <a:off x="2133720" y="1676520"/>
            <a:ext cx="6781680" cy="18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Density value for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Liquid water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nsity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- 4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7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6"/>
          <p:cNvSpPr/>
          <p:nvPr/>
        </p:nvSpPr>
        <p:spPr>
          <a:xfrm>
            <a:off x="2438280" y="2133720"/>
            <a:ext cx="6705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Least dense form of precipitatio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2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1219320" y="22860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ange in matter between solid, liquid, and gas forms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nsity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- 5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1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5"/>
          <p:cNvSpPr/>
          <p:nvPr/>
        </p:nvSpPr>
        <p:spPr>
          <a:xfrm>
            <a:off x="1447920" y="2286000"/>
            <a:ext cx="769608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Which is more dense: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10 mL of snow or 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10 mL of ice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nsity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- 6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5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6"/>
          <p:cNvSpPr/>
          <p:nvPr/>
        </p:nvSpPr>
        <p:spPr>
          <a:xfrm>
            <a:off x="2362320" y="1523880"/>
            <a:ext cx="5867280" cy="45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en 25 mL of ice melts (density of ice is 0.92 g/mL), what is the resulting volume of liquid water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Density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- 1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9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5"/>
          <p:cNvSpPr/>
          <p:nvPr/>
        </p:nvSpPr>
        <p:spPr>
          <a:xfrm>
            <a:off x="2666880" y="2133720"/>
            <a:ext cx="5791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d = m/V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Density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- 2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3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1752480" y="2286000"/>
            <a:ext cx="7010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slope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Density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- 3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7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Text Box 5"/>
          <p:cNvSpPr/>
          <p:nvPr/>
        </p:nvSpPr>
        <p:spPr>
          <a:xfrm>
            <a:off x="762120" y="2590920"/>
            <a:ext cx="7238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1.00 g/mL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Density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- 4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1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5"/>
          <p:cNvSpPr/>
          <p:nvPr/>
        </p:nvSpPr>
        <p:spPr>
          <a:xfrm>
            <a:off x="457200" y="29718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n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Density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- 5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5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5"/>
          <p:cNvSpPr/>
          <p:nvPr/>
        </p:nvSpPr>
        <p:spPr>
          <a:xfrm>
            <a:off x="914400" y="25909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ice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Density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- 6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9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5"/>
          <p:cNvSpPr/>
          <p:nvPr/>
        </p:nvSpPr>
        <p:spPr>
          <a:xfrm>
            <a:off x="762120" y="24382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23 m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75780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Charles’s Law-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3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5">
            <a:hlinkClick r:id="" action="ppaction://hlinkshowjump?jump=previousslide"/>
          </p:cNvPr>
          <p:cNvSpPr/>
          <p:nvPr/>
        </p:nvSpPr>
        <p:spPr>
          <a:xfrm>
            <a:off x="1219320" y="5486400"/>
            <a:ext cx="38098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1295280" y="2514600"/>
            <a:ext cx="6248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mperature scale that must be used regarding Charles’s l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Charles’s Law-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- 2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8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ectangle 5">
            <a:hlinkClick r:id="" action="ppaction://hlinkshowjump?jump=previousslide"/>
          </p:cNvPr>
          <p:cNvSpPr/>
          <p:nvPr/>
        </p:nvSpPr>
        <p:spPr>
          <a:xfrm>
            <a:off x="1066680" y="4952880"/>
            <a:ext cx="49532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1371600" y="236232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wo variables related by Charles’s L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3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5">
            <a:hlinkClick r:id="" action="ppaction://hlinkshowjump?jump=previousslide"/>
          </p:cNvPr>
          <p:cNvSpPr/>
          <p:nvPr/>
        </p:nvSpPr>
        <p:spPr>
          <a:xfrm>
            <a:off x="609480" y="3809880"/>
            <a:ext cx="5029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1219320" y="2514600"/>
            <a:ext cx="6400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ariables related so that when one increases, the other increases; can multiply one variable by a constant to obtain the other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Charles’s Law-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- 3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3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5">
            <a:hlinkClick r:id="" action="ppaction://hlinkshowjump?jump=previousslide"/>
          </p:cNvPr>
          <p:cNvSpPr/>
          <p:nvPr/>
        </p:nvSpPr>
        <p:spPr>
          <a:xfrm>
            <a:off x="914400" y="5029200"/>
            <a:ext cx="4876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6"/>
          <p:cNvSpPr/>
          <p:nvPr/>
        </p:nvSpPr>
        <p:spPr>
          <a:xfrm>
            <a:off x="1295280" y="2438280"/>
            <a:ext cx="7315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60°C = ___ K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Charles’s Law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- 4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8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Rectangle 5">
            <a:hlinkClick r:id="" action="ppaction://hlinkshowjump?jump=previousslide"/>
          </p:cNvPr>
          <p:cNvSpPr/>
          <p:nvPr/>
        </p:nvSpPr>
        <p:spPr>
          <a:xfrm>
            <a:off x="1295280" y="4267080"/>
            <a:ext cx="4876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609480" y="236232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bsolute ze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Charles’s Law-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- 5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3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Rectangle 5">
            <a:hlinkClick r:id="" action="ppaction://hlinkshowjump?jump=previousslide"/>
          </p:cNvPr>
          <p:cNvSpPr/>
          <p:nvPr/>
        </p:nvSpPr>
        <p:spPr>
          <a:xfrm>
            <a:off x="1295280" y="3886200"/>
            <a:ext cx="5105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523880" y="2438280"/>
            <a:ext cx="586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ill happen to the volume of a gas if the Kelvin temperature dou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les’s Law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- 6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8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angle 5">
            <a:hlinkClick r:id="" action="ppaction://hlinkshowjump?jump=previousslide"/>
          </p:cNvPr>
          <p:cNvSpPr/>
          <p:nvPr/>
        </p:nvSpPr>
        <p:spPr>
          <a:xfrm>
            <a:off x="1219320" y="4876920"/>
            <a:ext cx="48765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6"/>
          <p:cNvSpPr/>
          <p:nvPr/>
        </p:nvSpPr>
        <p:spPr>
          <a:xfrm>
            <a:off x="1295280" y="243828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Kelvin temperature of a gas if it triples in volume from a starting temperature of 100 K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Charles’s Law-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- 1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3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 Box 5"/>
          <p:cNvSpPr/>
          <p:nvPr/>
        </p:nvSpPr>
        <p:spPr>
          <a:xfrm>
            <a:off x="838080" y="2666880"/>
            <a:ext cx="7543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Kelvi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Charles’s Law-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- 2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7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Text Box 5"/>
          <p:cNvSpPr/>
          <p:nvPr/>
        </p:nvSpPr>
        <p:spPr>
          <a:xfrm>
            <a:off x="914400" y="2514600"/>
            <a:ext cx="716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Kelvin temperature and volume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2">
            <a:hlinkClick r:id="rId1" action="ppaction://hlinksldjump"/>
          </p:cNvPr>
          <p:cNvSpPr/>
          <p:nvPr/>
        </p:nvSpPr>
        <p:spPr>
          <a:xfrm>
            <a:off x="-304920" y="-38088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Charles’s Law-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3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1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Text Box 5"/>
          <p:cNvSpPr/>
          <p:nvPr/>
        </p:nvSpPr>
        <p:spPr>
          <a:xfrm>
            <a:off x="1828800" y="2819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Text Box 6"/>
          <p:cNvSpPr/>
          <p:nvPr/>
        </p:nvSpPr>
        <p:spPr>
          <a:xfrm>
            <a:off x="990720" y="23623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333 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Charles’s Law-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4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6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 Box 5"/>
          <p:cNvSpPr/>
          <p:nvPr/>
        </p:nvSpPr>
        <p:spPr>
          <a:xfrm>
            <a:off x="685800" y="22860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0 K, lower limit to temper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Charles’s Law-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5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0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Text Box 5"/>
          <p:cNvSpPr/>
          <p:nvPr/>
        </p:nvSpPr>
        <p:spPr>
          <a:xfrm>
            <a:off x="1143000" y="236232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volume doub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Charles’s Law-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6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4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Text Box 5"/>
          <p:cNvSpPr/>
          <p:nvPr/>
        </p:nvSpPr>
        <p:spPr>
          <a:xfrm>
            <a:off x="990720" y="26668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300 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4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5">
            <a:hlinkClick r:id="" action="ppaction://hlinkshowjump?jump=previousslide"/>
          </p:cNvPr>
          <p:cNvSpPr/>
          <p:nvPr/>
        </p:nvSpPr>
        <p:spPr>
          <a:xfrm>
            <a:off x="839880" y="3728880"/>
            <a:ext cx="4954320" cy="6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6"/>
          <p:cNvSpPr/>
          <p:nvPr/>
        </p:nvSpPr>
        <p:spPr>
          <a:xfrm>
            <a:off x="838080" y="236232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mperature at which a substance changes from the solid state to the liquid stat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- 1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1219320" y="22096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oiling point of water in Celsius and Fahrenhe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2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 Box 5"/>
          <p:cNvSpPr/>
          <p:nvPr/>
        </p:nvSpPr>
        <p:spPr>
          <a:xfrm>
            <a:off x="914400" y="24382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nstrument used to measure temper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3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 Box 5"/>
          <p:cNvSpPr/>
          <p:nvPr/>
        </p:nvSpPr>
        <p:spPr>
          <a:xfrm>
            <a:off x="1219320" y="228600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appens to the liquid in a thermometer as it is hea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4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Text Box 5"/>
          <p:cNvSpPr/>
          <p:nvPr/>
        </p:nvSpPr>
        <p:spPr>
          <a:xfrm>
            <a:off x="914400" y="2438280"/>
            <a:ext cx="71629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The temperature scale(s) containing the largest size for a degree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5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5"/>
          <p:cNvSpPr/>
          <p:nvPr/>
        </p:nvSpPr>
        <p:spPr>
          <a:xfrm>
            <a:off x="762120" y="2057400"/>
            <a:ext cx="7238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The type of energy of a substance indicated by temperatur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6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Text Box 6"/>
          <p:cNvSpPr/>
          <p:nvPr/>
        </p:nvSpPr>
        <p:spPr>
          <a:xfrm>
            <a:off x="1905120" y="2362320"/>
            <a:ext cx="533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oretically the lowest possible temper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1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Text Box 5"/>
          <p:cNvSpPr/>
          <p:nvPr/>
        </p:nvSpPr>
        <p:spPr>
          <a:xfrm>
            <a:off x="1295280" y="236232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0°C/212°F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2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5"/>
          <p:cNvSpPr/>
          <p:nvPr/>
        </p:nvSpPr>
        <p:spPr>
          <a:xfrm>
            <a:off x="1447920" y="2819520"/>
            <a:ext cx="556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a thermometer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3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Text Box 5"/>
          <p:cNvSpPr/>
          <p:nvPr/>
        </p:nvSpPr>
        <p:spPr>
          <a:xfrm>
            <a:off x="914400" y="2743200"/>
            <a:ext cx="6934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an increase in height and volume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4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5"/>
          <p:cNvSpPr/>
          <p:nvPr/>
        </p:nvSpPr>
        <p:spPr>
          <a:xfrm>
            <a:off x="1143000" y="259092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°C or K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5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5">
            <a:hlinkClick r:id="" action="ppaction://hlinkshowjump?jump=previousslide"/>
          </p:cNvPr>
          <p:cNvSpPr/>
          <p:nvPr/>
        </p:nvSpPr>
        <p:spPr>
          <a:xfrm>
            <a:off x="838080" y="403848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1371600" y="281952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asure of the average kinetic energy of a sampl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5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1066680" y="2590920"/>
            <a:ext cx="6705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kinetic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6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Text Box 5"/>
          <p:cNvSpPr/>
          <p:nvPr/>
        </p:nvSpPr>
        <p:spPr>
          <a:xfrm>
            <a:off x="1371600" y="2286000"/>
            <a:ext cx="5638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absolute zero or 0 K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1" action="ppaction://hlinksldjump"/>
              </a:rPr>
              <a:t>KMT- 1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Rectangle 4">
            <a:hlinkClick r:id="rId2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 Box 6"/>
          <p:cNvSpPr/>
          <p:nvPr/>
        </p:nvSpPr>
        <p:spPr>
          <a:xfrm>
            <a:off x="2438280" y="2819520"/>
            <a:ext cx="480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8"/>
          <p:cNvSpPr/>
          <p:nvPr/>
        </p:nvSpPr>
        <p:spPr>
          <a:xfrm>
            <a:off x="1279440" y="2550960"/>
            <a:ext cx="58834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molecules of a gas are in constant ____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KMT- </a:t>
            </a: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Text Box 6"/>
          <p:cNvSpPr/>
          <p:nvPr/>
        </p:nvSpPr>
        <p:spPr>
          <a:xfrm>
            <a:off x="1676520" y="2819520"/>
            <a:ext cx="693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auses of a gas particle to change direction from its straight-line pa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KMT-</a:t>
            </a: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 3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6"/>
          <p:cNvSpPr/>
          <p:nvPr/>
        </p:nvSpPr>
        <p:spPr>
          <a:xfrm>
            <a:off x="1676520" y="2438280"/>
            <a:ext cx="617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Are the speeds of gas particles the same or different at a given temperature?  Explain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KMT- </a:t>
            </a: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4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Text Box 5"/>
          <p:cNvSpPr/>
          <p:nvPr/>
        </p:nvSpPr>
        <p:spPr>
          <a:xfrm>
            <a:off x="1676520" y="274320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gas particles change if the temperature is increas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KMT- </a:t>
            </a: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5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Text Box 6"/>
          <p:cNvSpPr/>
          <p:nvPr/>
        </p:nvSpPr>
        <p:spPr>
          <a:xfrm>
            <a:off x="990720" y="2286000"/>
            <a:ext cx="7315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Increased or decreased numbers of these affect the pressure of a ga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KMT- </a:t>
            </a: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6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1828800" y="259092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needed in order to have weat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MT- 1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Text Box 5"/>
          <p:cNvSpPr/>
          <p:nvPr/>
        </p:nvSpPr>
        <p:spPr>
          <a:xfrm>
            <a:off x="1676520" y="2590920"/>
            <a:ext cx="5790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motion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MT- 2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762120" y="1828800"/>
            <a:ext cx="601956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What are collisions with other gas molecules and the walls of the container?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6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5">
            <a:hlinkClick r:id="" action="ppaction://hlinkshowjump?jump=previousslide"/>
          </p:cNvPr>
          <p:cNvSpPr/>
          <p:nvPr/>
        </p:nvSpPr>
        <p:spPr>
          <a:xfrm>
            <a:off x="685800" y="3505320"/>
            <a:ext cx="48769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838080" y="2057400"/>
            <a:ext cx="7239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s that gases are composed of tiny particles in continuous, random, straight-line motion and collide with each other and the walls of the container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MT- 3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Text Box 5"/>
          <p:cNvSpPr/>
          <p:nvPr/>
        </p:nvSpPr>
        <p:spPr>
          <a:xfrm>
            <a:off x="2133720" y="2514600"/>
            <a:ext cx="510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are different speed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MT- 4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5"/>
          <p:cNvSpPr/>
          <p:nvPr/>
        </p:nvSpPr>
        <p:spPr>
          <a:xfrm>
            <a:off x="1295280" y="2133720"/>
            <a:ext cx="701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moving faster, causing more collision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MT- 5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Text Box 5"/>
          <p:cNvSpPr/>
          <p:nvPr/>
        </p:nvSpPr>
        <p:spPr>
          <a:xfrm>
            <a:off x="1371600" y="2514600"/>
            <a:ext cx="6629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are collision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MT- 6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Text Box 5"/>
          <p:cNvSpPr/>
          <p:nvPr/>
        </p:nvSpPr>
        <p:spPr>
          <a:xfrm>
            <a:off x="1676520" y="29718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tmosp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1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1143000" y="2438280"/>
            <a:ext cx="7238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weather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2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1143000" y="2514600"/>
            <a:ext cx="7010280" cy="18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a phase chang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(physical change)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23:49:27Z</dcterms:created>
  <dc:creator>Great Valley High School</dc:creator>
  <dc:description/>
  <dc:language>en-US</dc:language>
  <cp:lastModifiedBy>Great Valley High School</cp:lastModifiedBy>
  <dcterms:modified xsi:type="dcterms:W3CDTF">2012-02-14T14:20:57Z</dcterms:modified>
  <cp:revision>45</cp:revision>
  <dc:subject/>
  <dc:title>Thermochemistry Jeopardy</dc:title>
</cp:coreProperties>
</file>